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C7F-F3BA-461F-9AB0-948DEBEE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1E4-BB33-42C0-952C-D4890C5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C4D-7E86-47E4-B0EC-3EA9FB64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629-0320-42D6-B682-45991467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7D6-F25C-41DE-801E-8F0576B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8C1-7DC1-4DD9-8883-AFF1178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6A6-C5F2-49AC-B013-6B28CF2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E24-16C9-44FF-989A-BA2DD630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34A-F911-48EF-BD7D-7AE9E8C0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70E-CB4F-4FB4-B7C1-DAAA2EA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E8F-CC88-40A8-B502-BB67A6A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FB7-BAF4-4060-9C32-ED7B3E3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3D5C-07B1-418D-B3B5-63C195215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4120" y="549360"/>
            <a:ext cx="49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m se schová rákosníč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kuste si vzpomenout definice k následujícím pojmům.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kud si nevzpomínáte, tak počkejte, až vám poradí vyučují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vodí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je oblast, ze které voda odtéká do jedné konkrétní řeky či jez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zvo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je hranice mezi dvěma povodí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Úmoří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je oblast, ze které všechna povodí ústí do konkrétního moře či oce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o kolika úmoří je rozdělena Česká republika? Dokážete je vyjmenovat i s povodími, která k nim nále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ČR je rozdělena do 3 úmoří: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Černé moře </a:t>
            </a:r>
            <a:r>
              <a:rPr b="0" lang="en-GB" sz="1500" spc="-1" strike="noStrike">
                <a:solidFill>
                  <a:srgbClr val="333399"/>
                </a:solidFill>
                <a:latin typeface="Arial"/>
              </a:rPr>
              <a:t>- hlavní povodí tvoří řeky Morava a Dyje (tedy povodí řeky Dunaj) </a:t>
            </a:r>
            <a:br>
              <a:rPr sz="15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verní moře </a:t>
            </a:r>
            <a:r>
              <a:rPr b="0" lang="en-GB" sz="1500" spc="-1" strike="noStrike">
                <a:solidFill>
                  <a:srgbClr val="333399"/>
                </a:solidFill>
                <a:latin typeface="Arial"/>
              </a:rPr>
              <a:t>- hlavní povodí tvoří řeka Labe </a:t>
            </a:r>
            <a:br>
              <a:rPr sz="15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altské moře </a:t>
            </a:r>
            <a:r>
              <a:rPr b="0" lang="en-GB" sz="1500" spc="-1" strike="noStrike">
                <a:solidFill>
                  <a:srgbClr val="333399"/>
                </a:solidFill>
                <a:latin typeface="Arial"/>
              </a:rPr>
              <a:t>- hlavní povodí tvoří řeky Lužická Nisa a Odra (tedy povodí řeky Odry)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terá povodí se nacházejí v České republ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vodí Labe, Vltavy, Moravy, Ohře a O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terá úmoří zasahují do kraje Vysočina a která povodí zde js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úmoří Černé moře a Severní moře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vodí Moravy, Vltavy a Labe (na seve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7920" y="1557360"/>
            <a:ext cx="3521160" cy="30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5435640" cy="326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807080" y="4749840"/>
            <a:ext cx="4302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4280" y="159984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Jednotlivá povodí mají své závody, které mají rozdělenou územní působnost. Do kterého z následujících závodů si myslíte, že patří stanice, na kterou jsme se zaměři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Horní Mora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Střední Mora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Dyj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terý z následujících závodů si myslíte, že spravuje nejvíce sta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Horní Mora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Střední Mora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ávod Dy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2852640"/>
            <a:ext cx="1584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4508640"/>
            <a:ext cx="1584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kuste následující srážky rozdělit na horizontální a vertikální. Zakroužkujte jen ty horizontální, ostatní budou považovány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a vertikál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éšť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znoucí déšť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hol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znoucí mrhol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ní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í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něhové krupky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mraza          sněhová zrna          krupky          zmrzlý déšť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dovka          kroupy          ledové jehličky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2565360"/>
            <a:ext cx="719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21440" y="2997360"/>
            <a:ext cx="7189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50208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005360"/>
            <a:ext cx="1079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rážky</a:t>
            </a:r>
            <a:br>
              <a:rPr sz="2000"/>
            </a:b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lkem 1,3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ůměrná teplota</a:t>
            </a:r>
            <a:br>
              <a:rPr sz="2000"/>
            </a:b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ca 14 stupňů Celsi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1665360"/>
            <a:ext cx="3276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onusový úk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onusový úkol – samostatná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 Vodohospodářském informačním portálu zkuste najít, kolik koupališť se nachází do 30 kilometrů od vašeho bydliště. Jak zjistíte letecké vzdálenosti mezi svým bydlištěm a koupalištěm? A kolik kilometrů by to bylo autem? Zavzpomínejte na předchozí lekce 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 zkuste úkol zdárně vyřeši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má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ště je připravena poslední lekce projekt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lední lekce bude mít náz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oinformatika v praxi aneb Co jsme se nauči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10:12:51Z</dcterms:modified>
  <cp:revision>113</cp:revision>
  <dc:subject/>
  <dc:title>1</dc:title>
</cp:coreProperties>
</file>