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C3E-337C-4AAE-BE2F-E4E5E79E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F1C-1529-46F4-9764-EDA6E517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506-0826-4283-9280-EB491C6F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F74-E8BD-449F-9C83-97DF5D7B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628-DA9A-4DE6-875F-D6F554A6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9F3-9A6A-4C70-AB21-4402C14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422-C30A-41EF-8F2F-9F46E560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B76-F1E1-4838-9F44-68E3EAF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843-AF22-4824-9BFB-843C5E5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ACE-98BD-457A-BB5D-CB20C8B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46-AD52-43C3-95E4-8EC3CF3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DF9-40F8-4AAC-B2EB-8B6A2B8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D2FA-7E14-4D2A-91BD-037CEA1A9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9400" y="54936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mek kam se podívá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kuste si vzpomenout, kolik obcí a měst v kraji Vysočina máme (přibližně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čet obc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7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 toto je měst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íte, kolik vesnických památkových rezervací v kraji Vysočina je? Pokud ne, zkuste si alespoň tipn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Jsou vypsané charakteristiky skute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statistickými daty?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ANO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3080" y="3213000"/>
            <a:ext cx="676764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95640" y="2205000"/>
            <a:ext cx="79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4280" y="159984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 kterých z následujících charakteristik si myslíte, že je nutné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vést datum, ke kterému platí? Zakroužkujte ty odpovědi,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 kterých si myslíte, že datum potřebné 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čet firem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zloh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čet obc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alesněná ploch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jvyšší nadm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řská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ýšk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čet obyvate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5360" indent="-40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yslíte si, že víte, které úřady ve vašem krajském městě najdete? Zakroužkujte ty, které si myslíte, že v Jihlavě sídlí nebo mají svou pobo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lní úřad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rážní úřad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rajský úřad 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ční úřad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rchní soud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Úřad 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2637000"/>
            <a:ext cx="1368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637000"/>
            <a:ext cx="136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141720"/>
            <a:ext cx="208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3141720"/>
            <a:ext cx="1800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15772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5157720"/>
            <a:ext cx="1440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5662440"/>
            <a:ext cx="158436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5662440"/>
            <a:ext cx="122400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kuste k následujícím výřezům map přiřadit letopočet, ve kterém byly vytvořeny. Všechny znázorňují Jihlavu.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8000" y="2565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68360" y="3573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29080" y="2565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0" y="357336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637000"/>
            <a:ext cx="7192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637000"/>
            <a:ext cx="7192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645000"/>
            <a:ext cx="71928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3645000"/>
            <a:ext cx="136872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836-18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teré z následujících metod jsou – nebo byly – využívané pro znázornění reliéf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pečková met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hová meto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oda šraf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ín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álová metoda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421000"/>
            <a:ext cx="23050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421000"/>
            <a:ext cx="23050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292572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680000" cy="26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3554280"/>
            <a:ext cx="2371680" cy="261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403280" y="3068640"/>
            <a:ext cx="2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306864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5799240"/>
            <a:ext cx="388764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enského mapa Moravy, 1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5516640"/>
            <a:ext cx="464328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evo:    LinGr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= sklonové šraf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pravo: LinSchade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ónované šraf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onusové ú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onusový úkol – samostatná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Na internetových stránkách Portálu v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jné správy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ské republiky zkuste najít, k jakým ú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 má 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íslušnost vaše obec. P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kvapilo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vás n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Zkuste na internetu najít staré mapy, na kterých je obec, ve které bydlíte. Je na dané mapě vůbec? A jak se tehdy jmenovala? Nezapomeňte si poznamenat, kde jste mapu našli, z kterého je období a pokud tento údaj najdete, tak i kdo je jejím autor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dmá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z Extra porce lokálního zeměpisu jsou připrave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bude mít název Kam se schová rákosníč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11:30:29Z</dcterms:modified>
  <cp:revision>106</cp:revision>
  <dc:subject/>
  <dc:title>1</dc:title>
</cp:coreProperties>
</file>