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92C-0D59-44CE-BDAA-4A428CDE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AEA9-AF68-44AC-B701-1EA52CB2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55F-0712-4309-A80B-505B9029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BD4-33EE-487F-A87F-1880EF5C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E37C-E765-4C46-818A-BC85F35A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C65-3F1C-4AA5-9CAA-DA2F4E54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988-0802-468D-AB79-5478776B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62A0-3E28-451A-9648-B1989FD2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BB24-839E-4C9B-800F-7EDEE212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3EC-5D71-4299-9E14-99813A04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222-BFC4-48C5-8F28-CCBFBDB6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D9E-3B59-45B3-B2C0-355E3F2E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5C9C-02A7-48A2-A7BE-B158661A6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oinformatics.upol.cz/app/exploze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chranaprirody.cz/" TargetMode="External"/><Relationship Id="rId3" Type="http://schemas.openxmlformats.org/officeDocument/2006/relationships/hyperlink" Target="http://drusop.nature.cz/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5745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20320" y="549360"/>
            <a:ext cx="31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roda okolo n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712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Šestá lekce EXPLOZE končí. Pokud vás bavila, nesmutně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lší lekce z Extra porce lokálního zeměpisu jsou připraven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 internetových stránkách projektu jsou navíc u každé lekce bonusové úkoly, otázky a další in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dívejte se proto na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eoinformatics.upol.cz/app/explo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lší lekce bude mít název Domek kam se podívá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Ke zkratkám doplňte jejich celé zn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P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20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árodní park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řírodní památka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PR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Národní přírodní rezervace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HKO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Chráněná krajinná oblast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řírodní rezervace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PP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Národní přírodní památka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yní si k následujícím textům připojte zkratku, ke které patř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NPR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GB" sz="1500" spc="-1" strike="noStrike">
                <a:solidFill>
                  <a:srgbClr val="000000"/>
                </a:solidFill>
                <a:latin typeface="Arial"/>
              </a:rPr>
              <a:t>je nejvýznačnější kategorií ochrany maloplošných území. Poskytuje ochranu v mezinárodním nebo národním měřítku unikátním přírodním ekosystémům </a:t>
            </a:r>
            <a:br>
              <a:rPr sz="1500"/>
            </a:br>
            <a:r>
              <a:rPr b="1" i="1" lang="en-GB" sz="1500" spc="-1" strike="noStrike">
                <a:solidFill>
                  <a:srgbClr val="000000"/>
                </a:solidFill>
                <a:latin typeface="Arial"/>
              </a:rPr>
              <a:t>s vzácnými a ohroženými organismy i anorganickými fenomény.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i="1" lang="cs-CZ" sz="20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GB" sz="1500" spc="-1" strike="noStrike">
                <a:solidFill>
                  <a:srgbClr val="000000"/>
                </a:solidFill>
                <a:latin typeface="Arial"/>
              </a:rPr>
              <a:t>je obdobou národní přírodní rezervace, avšak pouze s regionálním význam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PP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500" spc="-1" strike="noStrike">
                <a:solidFill>
                  <a:srgbClr val="000000"/>
                </a:solidFill>
                <a:latin typeface="Arial"/>
              </a:rPr>
              <a:t>je obdobou národní přírodní památky, avšak pouze s regionálním význam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CHKO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GB" sz="1500" spc="-1" strike="noStrike">
                <a:solidFill>
                  <a:srgbClr val="000000"/>
                </a:solidFill>
                <a:latin typeface="Arial"/>
              </a:rPr>
              <a:t>je rozsáhlé území s harmonicky utvářenou krajinou, charakteristicky vyvinutým reliéfem, významným podílem přirozených ekosystémů lesních a trvalých travních porostů s hojným zastoupením dřevin, případně s dochovanými památkami historického osídlení</a:t>
            </a:r>
            <a:r>
              <a:rPr b="1" i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NPP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GB" sz="1500" spc="-1" strike="noStrike">
                <a:solidFill>
                  <a:srgbClr val="000000"/>
                </a:solidFill>
                <a:latin typeface="Arial"/>
              </a:rPr>
              <a:t>je obvykle území menší rozlohy zřízené k ochraně určitých přírodních objektů národní až nadnárodní hodnoty</a:t>
            </a:r>
            <a:r>
              <a:rPr b="1" i="1" lang="cs-CZ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cs-CZ" sz="2000" spc="-1" strike="noStrike">
                <a:solidFill>
                  <a:srgbClr val="333399"/>
                </a:solidFill>
                <a:latin typeface="Arial"/>
              </a:rPr>
              <a:t>NP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1500" spc="-1" strike="noStrike">
                <a:solidFill>
                  <a:srgbClr val="000000"/>
                </a:solidFill>
                <a:latin typeface="Arial"/>
              </a:rPr>
              <a:t>je rozsáhlé území, jedinečné v národním nebo mezinárodním měřítku, jehož značnou část zaujímají přirozené nebo lidskou činností málo ovlivněné ekosystémy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Určitě jste si už všimli, že jsou zkratky různě proházené a že neznáme jejich žebříček důležitosti. Zkuste proto následující zkratky vypsat v takovém pořadí, v jakém je jejich důležitost (od největší po nejmenší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PR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PP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P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KO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Správná odpově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P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HKO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PR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PP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R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Nejd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íve si zkusme tipnout. Kolik si myslíte,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e je následujících chrán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ných území nebo památek v 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eské republice a kolik z nich 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je v kraji Vyso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i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 toho Vysoč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N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CHK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NP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NP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P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P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3273480"/>
            <a:ext cx="835164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4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25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112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7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105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785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6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1198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宋体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Určitě bychom měli znát ty nejdůležitější, i když se nenachází na území kraje Vysočina. Které Národní parky tedy máme v České republice? Pomoci vám mohou jejich lo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87280" y="2997360"/>
            <a:ext cx="2594160" cy="309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871800" y="4292640"/>
            <a:ext cx="1816200" cy="179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832360" y="3068640"/>
            <a:ext cx="3060720" cy="3060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022560" y="2655720"/>
            <a:ext cx="1513080" cy="1494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5805360"/>
            <a:ext cx="234000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rkonošský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789360"/>
            <a:ext cx="1331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P Pody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2000" y="5805360"/>
            <a:ext cx="2519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P České Švýc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59640" y="4437000"/>
            <a:ext cx="1547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P Šum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4280" y="1599840"/>
            <a:ext cx="821844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když na území kraje Vysočina není žádný Národní park, máme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tu dvě CHKO. Víte které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Žďárské vrchy – rozloha 71 500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Železné hory – 38 000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012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K následujícím textům zkuste doplnit, o zákaz nebo nařízení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k jaké chráněné lokalitě se jedná, zda je to NP, CHKO, NPR nebo NP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NP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Území je členěno do tří zón odstupňované ochrany, nejpřísnější režim je stanoven pro 1. zónu. Na území je omezen volný pohyb veřejnosti, podrobnosti jsou stanoveny v  návštěvních řáde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CHKO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ospodářské využívání těchto území se provádí podle zón odstupňované ochrany tak, </a:t>
            </a:r>
            <a:br>
              <a:rPr sz="1400"/>
            </a:b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by se udržoval a zlepšoval jejich přírodní stav a byly zachovány, popřípadě znovu vytvářeny optimální ekologické funkce těchto území. Rekreační využití je přípustné, pokud nepoškozuje přírodní hodnoty chráněných územ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NPR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ze zákona) – stejné zákazy, ale i další mnohem přísnější platí i u NP a CHKO</a:t>
            </a:r>
            <a:br>
              <a:rPr sz="1400"/>
            </a:b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Je zakázáno hospodaření intenzivním způsobem, těžba surovin, výstavba nových staveb, vstup a vjezd mimo vyznačené cesty, provozování horolezectví, létání na padácích </a:t>
            </a:r>
            <a:br>
              <a:rPr sz="1400"/>
            </a:b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 závěsných kluzácích, sběr a odchyt rostlin a živočich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NPP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Ochrana vylučuje veškeré činnosti, které by mohly objekt či území poškodit nebo zničit. Pokud je toto zaručeno, není vyloučeno hospodářské využití národní přírodní památky. V praxi se tak děje jen výjimečně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Bonusový úk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onusový úkol – samostatná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Internetové stránky AOPK js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chranaprirody.cz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Kromě těchto stránek ale existuje </a:t>
            </a:r>
            <a:br>
              <a:rPr sz="2000"/>
            </a:b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i ÚSOP – Ústřední seznam ochrany přírody a krajiny – internetová adresa je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drusop.nature.cz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 Zkuste vyhledat, zda ve vaší obci náhodou také není nějaké chráněné území nebo přírodní památka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843280" y="3860640"/>
            <a:ext cx="310176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7:43:44Z</dcterms:created>
  <dc:creator>Alena</dc:creator>
  <dc:description/>
  <dc:language>en-US</dc:language>
  <cp:lastModifiedBy>Alena</cp:lastModifiedBy>
  <dcterms:modified xsi:type="dcterms:W3CDTF">2008-05-14T11:25:01Z</dcterms:modified>
  <cp:revision>94</cp:revision>
  <dc:subject/>
  <dc:title>1</dc:title>
</cp:coreProperties>
</file>