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5D3-D908-4BCA-834B-498EA15E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B53-E732-45B6-988A-BD02B1C8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D42-8861-4ADA-9546-11CB1A6F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1A6-BF8D-4FE5-A166-21FA1E07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86F-1919-402E-BB0B-4609D076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BC3-19D7-4A95-849B-808D4386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739-42D6-490E-9C54-6CAC624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FF8-F5CF-4CA2-8368-2C9FF6CA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279-3069-4EAA-99D8-184553B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841-DC80-43CB-946D-68B7E83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BD8-E522-4313-B481-5611FE6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165-8E58-4E82-8A54-1CE3423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41D2-9E7A-4577-8688-FCCDCB81C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informatics.upol.cz/app/exploz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7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4320" y="5493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nás ohrožu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yjmenovaná rizika zapište do skupiny, do které podle vás patří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263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yzická geografie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cioekonomická geografi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328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emětřese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000" y="328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pravní nehod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78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vahové pohyb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378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riminalit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7800" y="4292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pla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7440" y="429264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vární znečiš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7800" y="47181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chři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íte, která organizace zjišťuje ze zákona údaje týkající se obyvatel České republiky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ý statistický úř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5545080" cy="3406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16720" y="4507920"/>
            <a:ext cx="187164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ww.czso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Jaké všechny údaje si myslíte,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e se sledují? U následujících jev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 v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dy zaškrt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te, zda si myslíte,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e k 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mu sbírá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eský statistický ú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ad úd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8424720" cy="267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0240" y="342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0240" y="3852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0240" y="4284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240" y="4772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360" y="5203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852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42926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772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203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yslíte si, že v České republice může vzniknout zemětřesení? Které oblasti si myslíte, že by byly nejohroženější? Hrozí velké nebezpečí i na Vysoči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O, i v České republice jsou zemětřesení.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ejohroženější oblasti jsou severozápadní Čechy a Ostrav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a Vysočině je nebezpečí velmi malé, nejhorší zemětřesení, které by v této oblasti mohlo zasáhnout,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y podle odborníků z Geofyzikálního ústavu Akademie věd mohlo dosáhnout maximálně 6 stupňů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dle makroseismické stupnice MSK-64. Takové zemětřesení je ale vysoce nepravděpodobné.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81080" y="6237360"/>
            <a:ext cx="9577440" cy="79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 následujících jevů zvažte, zda si myslíte, že je vyjmenované faktory mohou ovlivňovat. Správné odpovědi zaškrtně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2405160"/>
            <a:ext cx="6193080" cy="44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2960" y="29480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88040" y="32180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2960" y="350676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2960" y="38656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2960" y="415440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2960" y="29242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2960" y="32180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2960" y="357840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2960" y="38656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2960" y="415440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2960" y="52340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2960" y="559440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2960" y="58816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2960" y="617076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16480" y="64580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92840" y="52340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67680" y="559440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2960" y="58816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2960" y="617076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2960" y="65246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Bonusové ú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onusový úkol – samostatná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šechny informace a údaje, které spravuje Český statistický úřad,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sou dostupné na jeho internetových stránkách. Zkuste se pro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zajímavost na jeho stránky podívat a v krajských ročenkách,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ýsledcích sčítání lidu, domů a bytů a v dalších tabulkách a grafech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ajít údaje ke všem jevům z úkolu č. 2. Územím, pro které tyto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formace budete zjišťovat, nechť je kraj Vysoč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4038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Bonusové ú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onusový úkol – samostatná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a internetových stránkách Geofyzikálního ústavu můžete najít mapku, která znázorňuje riziko zemětřesení v České republice. Webová adresa je http://seis.ig.cas.cz/seismika/seismicita.php (případně ve vyhledávači zadejte „Zemětřesení v ČR Geofyzikální ústav“ a danou mapku najděte jinak). Vaším úkolem je, najít maximální hodnotu zemětřesení pro Prahu, Jihlavu a Ostra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4608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71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tvrtá lekce EXPLOZE končí. Pokud vás bavila, nesmut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z Extra porce lokálního zeměpisu jsou připrave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internetových stránkách projektu jsou navíc u každé lekce bonusové úkoly, otázky a další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vejte se proto na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informatics.upol.cz/app/exp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bude mít název Z ptačí perspekt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3:44Z</dcterms:created>
  <dc:creator>Alena</dc:creator>
  <dc:description/>
  <dc:language>en-US</dc:language>
  <cp:lastModifiedBy>Alena</cp:lastModifiedBy>
  <dcterms:modified xsi:type="dcterms:W3CDTF">2008-05-14T11:14:35Z</dcterms:modified>
  <cp:revision>62</cp:revision>
  <dc:subject/>
  <dc:title>1</dc:title>
</cp:coreProperties>
</file>