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853-9A3A-4CEF-BCEE-FCA30401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BEE-FABB-4E3D-88E6-81BEA5CF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029-BA17-4CBB-A70D-16FAD1A2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FAD-3B47-4CDB-8081-53D45D4E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98E-0759-4AAC-8BBF-8BB666E0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3A1-7456-48BA-AE38-2A7AD6A1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3E2-7B76-4890-8BA2-C26AD019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A6C-753E-4EC1-9E0A-E92F56D5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F4B-98DB-4760-8534-0A7089D2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A0F-991D-4C40-96F0-C2D8CA04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CC1-D170-43BB-9CA1-EF713397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128-1D76-48F7-96FD-14FBDF5A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46FE-5E37-4177-8FE8-CE66E941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mi.cz/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oinformatics.upol.cz/app/exploz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5745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5800" y="54936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 se nám ži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okážete vlastními slovy říci, jaký je rozdíl mezi počasím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 klimatem? Co u slova klima znamená předpona „topo“?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784600"/>
            <a:ext cx="8137800" cy="2945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ožná odpově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očasí je na rozdíl od podnebí jedním jedinečným stavem atmosféry. Počasí je obvykle chápáno jako stav troposféry (část atmosféry blízko zemského povrchu), protože ta je člověku nejblíže a bezprostředně ho obklopuje. Jedná se tedy o stav troposféry v daném časovém okamžiku. Oproti tomu klima a topoklima popisuje dlouhodobý charakteristický režim počas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ředpona TOPO znamená „místní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op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lň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názvy obcí, kde se klimatologické stanice nacházejí. Kolik z nich doká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eš správn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pojmenov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403848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9800" y="2175480"/>
            <a:ext cx="301680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1 Dušej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2 Košet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3 Černov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4 Dukovan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5 Bystřice nad Pernštejn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6 Vatí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7 Velké Meziříč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8 Sedle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9 Moravské Budějov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10 Přibysla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11 Havlíčkův Bro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12 Libice nad Doubravo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13 Horní Myslová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14 Nový Rychn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15 Počátk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pojte správně do dvojic meteorologický prvek a přístroj nebo způsob, kterak se prvek měří nebo sledu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276640"/>
            <a:ext cx="806472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plota vzd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plota půd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lhkost vzduch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ychlost a směr větru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uneční sv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rážk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ěhová pokrýv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mosférické je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276640"/>
            <a:ext cx="806436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ůdní tep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ed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sychrome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emome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etome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liome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p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ěrná la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357336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2637000"/>
            <a:ext cx="4969080" cy="28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24000" y="2636640"/>
            <a:ext cx="460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407664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4508640"/>
            <a:ext cx="518472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403280" y="4508280"/>
            <a:ext cx="583272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5445000"/>
            <a:ext cx="46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627280" y="3141720"/>
            <a:ext cx="468144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Doplňte názvy měřících přístrojů na obrázku. Pokud si nejste jisti, využijte nápovědu a vraťte se k úkolu č. 3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360" y="2349360"/>
            <a:ext cx="1889280" cy="3816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88240" y="1989000"/>
            <a:ext cx="2147760" cy="3168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012000" y="4292640"/>
            <a:ext cx="2305080" cy="188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211640" y="2349360"/>
            <a:ext cx="1736640" cy="381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050920" y="2349360"/>
            <a:ext cx="1152720" cy="381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276720" y="2349360"/>
            <a:ext cx="86040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3068280"/>
            <a:ext cx="136836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k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ůdní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plomě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5250960"/>
            <a:ext cx="136872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p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in a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pl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2340720"/>
            <a:ext cx="158436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sychrome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5171760"/>
            <a:ext cx="194472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ygrome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ké mě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lhkost vz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75640" y="5503320"/>
            <a:ext cx="136836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eliome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644280"/>
            <a:ext cx="158292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nemome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 splnění úkolu č. 5 potřebujete internet. Kdo nemá počítač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řipojení k internetu doma, ten může pracovat na počítači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 škole nebo ve veřejné knihovně, kde je připojení bezplat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známíme se s internetovými stránkami Českého úřadu hydrometeorologického. Proto do internetového prohlížeče zadáme adresu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hmi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36734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Jak se jmenuje odborný časopis, který je na stránkách dostupn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Meteorologické 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xistuje nějaká publikace, vydaná v nedávné době, která by obsahovala informace o klimatu České republiky? Pokud ano, jak se daná publikace jmen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Ano, Atlas podnebí Če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d kterého roku se sleduje úspěšnost předpovědi počasí?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712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řetí lekce EXPLOZE končí. Pokud vás bavila, nesmutně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lší lekce z Extra porce lokálního zeměpisu jsou připraven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 internetových stránkách projektu jsou navíc u každé lekce bonusové úkoly, otázky a další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ívejte se proto na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eoinformatics.upol.cz/app/explo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lší lekce bude mít název Co nás ohrož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7:43:44Z</dcterms:created>
  <dc:creator>Alena</dc:creator>
  <dc:description/>
  <dc:language>en-US</dc:language>
  <cp:lastModifiedBy>Alena</cp:lastModifiedBy>
  <dcterms:modified xsi:type="dcterms:W3CDTF">2008-05-14T11:11:08Z</dcterms:modified>
  <cp:revision>51</cp:revision>
  <dc:subject/>
  <dc:title>1</dc:title>
</cp:coreProperties>
</file>