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DA17-529A-47E4-A13B-A61AC77FE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F7EC-14BB-431B-9EEA-BB11F222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EC81-CD63-4F1B-A3F6-57D166CD8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1246-333B-4264-900D-0AAC3C9F8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6D97-BD93-4F32-B9A0-DD7D1BC5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AB49-B3CD-41B1-8716-262E89B6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F1AA-9A08-45F3-80BB-4F76D19A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7237-164A-4470-81FA-9CCF7FF4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5ADC-F73E-480A-ACAA-A85F907A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C57C-B6E0-47A9-A197-FA3B673D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3278-DD0D-4638-8550-DE69AD88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FA02-6012-4B8E-93B7-422DD5F7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6A8A-CEBF-411E-8EB9-496F016EF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eoinformatics.upol.cz/app/exploze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5745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20320" y="549360"/>
            <a:ext cx="333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ůj dům, můj h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Úkol č.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Podívejte se na následující obrázky. Co na mapkách vidíme? Je to stále jedno a totéž místo?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210360" y="2565360"/>
            <a:ext cx="2538360" cy="253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50920" y="2565360"/>
            <a:ext cx="2543040" cy="254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3271680" y="2565360"/>
            <a:ext cx="2524320" cy="252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539640" y="5308200"/>
            <a:ext cx="49690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ulturní památka Santiniho kostel Zelená ho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Žďáru nad Sázav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16720" y="5436360"/>
            <a:ext cx="2016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snice Vat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8712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ruhá lekce EXPLOZE končí. Pokud vás bavila, nesmutně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alší lekce z Extra porce lokálního zeměpisu jsou připraven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a internetových stránkách projektu jsou navíc u každé lekce bonusové úkoly, otázky a další inform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dívejte se proto na w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geoinformatics.upol.cz/app/explo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alší lekce bude mít název Jak se nám žij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Úkol č.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3300"/>
                </a:solidFill>
                <a:latin typeface="Arial"/>
              </a:rPr>
              <a:t>PŘÍKLAD ODPOVĚD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Napiš místo svého trvalého bydliště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alackého 8, Jihl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Zakroužkuj ty údaje, které jsi napsal v předcházející odpověd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700" spc="-1" strike="noStrike">
                <a:solidFill>
                  <a:srgbClr val="000000"/>
                </a:solidFill>
                <a:latin typeface="Arial"/>
              </a:rPr>
              <a:t>Ulice</a:t>
            </a:r>
            <a:r>
              <a:rPr b="1" i="1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700" spc="-1" strike="noStrike">
                <a:solidFill>
                  <a:srgbClr val="000000"/>
                </a:solidFill>
                <a:latin typeface="Arial"/>
              </a:rPr>
              <a:t>Číslo popisné</a:t>
            </a:r>
            <a:r>
              <a:rPr b="1" i="1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700" spc="-1" strike="noStrike">
                <a:solidFill>
                  <a:srgbClr val="000000"/>
                </a:solidFill>
                <a:latin typeface="Arial"/>
              </a:rPr>
              <a:t>Číslo orientační</a:t>
            </a:r>
            <a:r>
              <a:rPr b="1" i="1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700" spc="-1" strike="noStrike">
                <a:solidFill>
                  <a:srgbClr val="000000"/>
                </a:solidFill>
                <a:latin typeface="Arial"/>
              </a:rPr>
              <a:t>Obe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700" spc="-1" strike="noStrike">
                <a:solidFill>
                  <a:srgbClr val="000000"/>
                </a:solidFill>
                <a:latin typeface="Arial"/>
              </a:rPr>
              <a:t>PSČ</a:t>
            </a:r>
            <a:r>
              <a:rPr b="1" i="1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700" spc="-1" strike="noStrike">
                <a:solidFill>
                  <a:srgbClr val="000000"/>
                </a:solidFill>
                <a:latin typeface="Arial"/>
              </a:rPr>
              <a:t>Doručovací pošta </a:t>
            </a:r>
            <a:r>
              <a:rPr b="1" i="1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700" spc="-1" strike="noStrike">
                <a:solidFill>
                  <a:srgbClr val="000000"/>
                </a:solidFill>
                <a:latin typeface="Arial"/>
              </a:rPr>
              <a:t>Okres </a:t>
            </a:r>
            <a:r>
              <a:rPr b="1" i="1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700" spc="-1" strike="noStrike">
                <a:solidFill>
                  <a:srgbClr val="000000"/>
                </a:solidFill>
                <a:latin typeface="Arial"/>
              </a:rPr>
              <a:t>Kraj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4365720"/>
            <a:ext cx="792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03640" y="4365720"/>
            <a:ext cx="18734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740720" y="4365720"/>
            <a:ext cx="792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Úkol č.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4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Spolu s učitelem vymyslete zjednodušené vysvětlení toho, co to je katastrální území a parcela. Výsledné definice si zapište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3300"/>
                </a:solidFill>
                <a:latin typeface="Arial"/>
              </a:rPr>
              <a:t>Možná odpově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atastrální územ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Katastrální území je územní celek, který je vymezený hranicí v rámci katastru nemovitostí a z něhož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e skládají jednotlivá území obcí. Obec může být tvořena jedním nebo více katastrálními územím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rc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arcela je geometricky a polohově vymezené území, které je opatřeno parcelním číslem a které je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zobrazeno v katastrální mapě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Z následujících obrázků vyberte, který z nich představuje katastrální mapu. Zkuste ale také pojmenovat, co vidíte na ostatních obrázcích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Úkol č.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76720" y="2781360"/>
            <a:ext cx="2447640" cy="244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084720" y="2781360"/>
            <a:ext cx="2448000" cy="244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95280" y="2781360"/>
            <a:ext cx="2454120" cy="245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395280" y="4437000"/>
            <a:ext cx="2448000" cy="785520"/>
          </a:xfrm>
          <a:prstGeom prst="rect">
            <a:avLst/>
          </a:prstGeom>
          <a:solidFill>
            <a:srgbClr val="cc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Základní mapa Č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4437000"/>
            <a:ext cx="2447640" cy="785520"/>
          </a:xfrm>
          <a:prstGeom prst="rect">
            <a:avLst/>
          </a:prstGeom>
          <a:solidFill>
            <a:srgbClr val="cc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atastrální m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území v Jihlav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84720" y="4437000"/>
            <a:ext cx="2448000" cy="785520"/>
          </a:xfrm>
          <a:prstGeom prst="rect">
            <a:avLst/>
          </a:prstGeom>
          <a:solidFill>
            <a:srgbClr val="cc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rstev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území okolo Jihlav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Pokud máte k dispozici připojení k internetu, zkuste zjistit, v jakém katastrálním území se vaše bydliště nacház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Pokud připojení k internetu k dispozici nemáte, zjistěte název katastrálního území za domácí úkol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Úkol č.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835280" y="2884320"/>
            <a:ext cx="5400720" cy="3302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732720" y="4580640"/>
            <a:ext cx="2016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ww.cuzk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Jak můžeme zjistit, která zastávka autobusu, tramvaje nebo vlaku je nejblíže našemu bydlišti?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Úkol č.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2563920"/>
            <a:ext cx="86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marL="137160" indent="-137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ěřením v 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nalogové mapě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jak daleko jsou blízké zastávky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vyhodnotit tu nejbližš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 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igitálních mapách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za pomocí dostupných nástroj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říklad použití digitálního měřid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 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nternetových mapových aplikacích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zadáním hledaných parametr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Úkol č.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Hledali jste již někdy takový údaj v mapě? Jak se hledá v mapě klasické a jak na internetu? Ve dvojicích nebo v malých skupinkách vypište nástroje, které použijete k hledání v mapě klasické a také alespoň jednu adresu na internetu, kde byste tyto údaje mohli nají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lasická map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avítko, odpichovát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řípadně záznamový blok a kalkulačk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ternetov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ww.mapy.cz, www.supermapy.cz, www.map24.cz, mapy.atlas.cz, apod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Úkol č.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Zkuste si tipnou, jaká nejstarší mapa zobrazující naše území byla nalezena. Pomoci vám může obrázek. Prozradíme, že k dnešní mapě měla daleko i co se použitého materiálu týče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627280" y="2781360"/>
            <a:ext cx="4038480" cy="3157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-316080"/>
            <a:ext cx="9144000" cy="71517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32840" y="127080"/>
            <a:ext cx="90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zv.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avlovská map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byla nalezena v Pavlově na jižní Moravě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obrazuje tábořiště lovců mamutů u řeky Dyje p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vlovskými vrchy vyryté na mamutím kl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chází z období mladšího paleolit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hadované stáří je 25 000 l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vojitá linka symboliz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le míně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rtograf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59280" y="3860640"/>
            <a:ext cx="6084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22360" y="2637000"/>
            <a:ext cx="685800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andrující tok řeky Dyje, šrafur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ou vyznačeny svahy Pavlovských vrch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uprostřed je zaznačena osada lovců mamut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mocí bodové geometrické značky ve tvaru dvojité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roužku. Tato rytina je považována za nejstarší mapu vůb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7:43:44Z</dcterms:created>
  <dc:creator>Alena</dc:creator>
  <dc:description/>
  <dc:language>en-US</dc:language>
  <cp:lastModifiedBy>Alena</cp:lastModifiedBy>
  <dcterms:modified xsi:type="dcterms:W3CDTF">2008-05-14T06:45:28Z</dcterms:modified>
  <cp:revision>35</cp:revision>
  <dc:subject/>
  <dc:title>1</dc:title>
</cp:coreProperties>
</file>